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019-8E2C-4744-9634-EFA03B7C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B3B-78DB-4074-B046-147FCE2B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CC9A8-C4DA-46DE-A8B0-41BCA6B9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6F45E-7046-4B11-9937-942B5982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1A971-4D9D-4FC0-819D-521F0808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2D47C-6D4B-4E4F-BFB8-84DC53D1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1CA03-DFD0-461F-AD10-6B5B74EB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3D9B3-A26F-40AD-9B70-796A8764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D6BBD-2CF3-4508-A71F-3674CBC9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0A69A-961A-4C70-B1BC-78D1B250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3DB04-F1D5-4E77-9FF4-78DCFF94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93A89-4469-4105-90F7-C17F9DD6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1863-9269-4A36-A6D4-208E7507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0D0D0-7338-49BF-A853-16801FDD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8235B-5C44-4535-8E9E-62A93AC0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9FCB2-F761-4FBF-B652-620D2016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6C3DB-E9AE-4372-A81B-34E01D2B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B8C06-7D23-4246-94C8-1A1FE4C1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91040-411C-4B6A-B975-1DE5DEF0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7874B-5D07-434B-89B6-A62F1E78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A6DE1-2F04-4CA1-95CF-9DA2B19A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19F20-11AF-427D-9ED1-9E0F7F29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300C4-A07E-4058-9D72-BB63DCD0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10B-9286-42D9-915C-91DFE59E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92CBB-684F-4B62-8081-49F2FAA0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B705E-EF9A-4871-9ACE-99CEE26C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49686-1494-4761-8312-0B8C37DC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28057-E634-4916-9E74-1CE75FD0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CBE41-F9C6-43F5-A6D2-B14B69BE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562C7-7397-4FE5-9E2D-5242259E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DF3EB-5208-48AB-8FC4-530B9593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08B89-8BD4-42FF-BC11-1D3E7D40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E5E37-4275-4C95-A0CE-C0D69167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B94C9-B47F-438F-B49D-D9BBAA89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4CF5-ABC9-4A64-8AB3-19D80B46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83B6F-1A63-430B-8C86-B11FE00B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98B52-CE74-4178-A357-676D75B4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6AF4E-2D8C-4E1E-9F7A-97777CD7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F357E-68DD-4EC6-954B-D43A7586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CF59C-3E83-46A2-9AE3-3D361898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E3358-7BB5-43D5-941E-3E6F952F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478878-7244-4443-B79C-877520D6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C1738-3C60-462D-BD37-BDC56089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C3B76-B3F2-466E-A64C-12A8482C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68220-73FD-4AED-B77E-839C6DB1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31CB-F439-4C6B-AD3F-0F50A99A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DF041-8505-4A85-9491-9554B734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C98A3-7E1F-4BF4-B3B9-87A667EC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55EA9-76F7-4C60-9C28-087F9466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BE147-C6D6-416F-AE8A-C013203C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B19CF-C56A-49A8-9503-F9856B90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CA7DE-E847-4603-BC14-20C43FE5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BE33A-F9A9-48C7-95D7-686932D8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0046BD-BAE7-404A-B0FB-5967F08C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267DEF-5FC6-413E-821E-3BB4BA6A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FE1B5D-4B71-4B7A-B794-C1E1AB1B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E189-045A-4329-9180-F023583B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1CC2A-E43B-4C64-8C1D-7187851C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C3BFD-372F-46A5-BF5C-26D84DF9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A7CF8-8B79-4B83-9644-F92F1BB3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B0D29B-F8FB-4EA1-958C-891C4CFF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BB3226-0067-429B-A62C-BB01D6AA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F2D8F-5AF4-4465-91BC-0938AC39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CDE22A-A498-44BA-8646-FDDBD1AD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03BDE0-E53F-4C80-986B-3DF441B5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F7A4EF-99A0-4CE4-8B73-0862FC55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C93BC3-5B30-441E-AFF6-3E7C5BEC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28B1-9309-4DAF-9CCC-E12B3AB6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DD49AD-0205-4440-B31D-F71DC21F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B08E24-B63D-4D6F-BB30-1374FFC1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076AE6-A254-4EC1-AF04-7114EDA8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30E62A-9678-4B64-A596-60C3E05D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95BCD5-99F6-4AFD-BF47-18B02851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DBDE63-3AEF-4EEC-98BF-0FB2D4D5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38C192-48CC-4012-81F0-4BE75851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E291B1-EA58-4D0D-B65B-6FBDA6D7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5FAA6E-82C0-4CB1-BAEB-01EDF230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8C693C-522D-4B13-9300-4280789D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9AD7-42C5-4E43-ADD4-E5B7EE69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A0DEAE-2D57-418C-826C-B6370ED1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D5AABE-26D4-4C80-AB4B-F3CAB54F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0993F5-02B0-405F-8FB5-32A14FC1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A75212-7D96-40C2-992B-6B89A655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43949F-9DEB-43FE-8E74-B3AE8CF3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C3757B-B49D-4E88-8318-9E61C06C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9A3C68-4575-447C-B7E5-803EF22F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2AE951-5E4E-4BE6-910D-0D2E92FC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D1A628-D751-4E1B-8A01-5D4A3BE5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93C165-B457-48FF-AA97-FCBF244B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4A40-FFE2-4687-8549-8B6CB1D8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6E5780-B85A-42FB-9F68-83D7AC45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438629-A304-427B-9FC1-FDFF4DA9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23ACEA-2DD2-442A-85F1-81E3014F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1848D3-1DFD-42E7-B0E4-2627D368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DB78C7-C1C2-41EF-AF06-04574C35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23C787-E88E-43DA-9576-A354CA71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0A6E40-2846-4B47-B43E-A18E7308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BF68F4-7B9F-442B-A4B0-CA5E0099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BC4F21-CDC5-471C-A271-9B5D8715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D5D19C-5E59-4837-9817-E914D77A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ECB7-A2A5-482B-A33B-DF2CC913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8CD4A3-74E6-4CBF-BAC4-B44C3536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7CD69D-A315-4C5B-B165-158278E4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632715-3609-4E56-9A90-B07AADED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F110A8-FC0A-411D-AAEB-50ED5864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93DCB7-5DA0-47DA-A2F7-2DD9D904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25EAA3-FD1D-4E1F-BD70-7EED7BDA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D7ADDA-1908-4CC4-BA7C-A4256573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1AE03D-FC01-41F0-BF46-221543E2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9E5811-374F-477A-8EF7-128B0BCC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B3E272-1CF6-48FD-8BEF-1681721D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4A26-7509-4DED-B06C-7E14A061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B7CE-95B6-46B8-AFB0-E755F972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301A4A-8D55-481C-A053-57B08795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1A7E3C-8154-41F0-8161-A23932FE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458BCA-569F-465F-A506-C3F13711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CF33F0-D476-4F79-AFBA-B07EC3E0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692AFC-FE39-4455-B330-7044B36C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2C62C4-9E5E-480F-9555-7E06D3C4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C5D081-45D9-43AF-9A7F-3714BBD7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411648-E90C-4B9C-AD44-C384100F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8B457F-09A7-4AB5-B559-F32C3241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02BF89-02A6-4D0A-848E-4B9C473D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9FE5-DB04-4B9E-B675-9FE17863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C9B172-AA76-4C53-847B-DB95E65A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6AB8E1-7258-4751-AD80-13CFD12C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4F16F0-766D-4E51-A80F-CE6E472D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8C0300-36F1-4666-9DC9-6562C870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79E864-7A3C-43C8-96FB-2632A36E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559EA4-4CE1-49DE-A2D9-295F5B8B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0C0007-856A-4196-A614-853D7F3C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96F8-E175-44C2-9020-70E1058F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CC75-8AF2-4F63-828D-66E4AD40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93E9-C86C-408E-B4DF-D6350008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18A92-C2BF-4298-9FAA-46C41919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C5DD6-3DE9-4E62-B853-71E6E263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1C8C0-424E-4485-9F69-28496233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C6917-B1E7-4676-A93E-92C72AE9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75076-C639-40A8-B760-E75FBD27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113B-ED75-4FF3-BE21-31D9DCDA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86806-7F79-4D92-8260-EFA3A4A7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6A68E-1ADD-4914-8710-F6AC0F77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DFACC-073C-498B-8911-9CEFC382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EFBD6-879A-460C-8186-9AB6088C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840A0-C08E-43EA-A203-E7AE3FF6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FF62D-0A1D-4A0E-AF75-2B734D1C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45CD9-9B5B-4CDC-9A0F-64EC17BC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3468A-DF52-46D0-B1E6-0E21FABA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92910-72AA-4330-A162-D57E9C9F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D2114-DCD4-4EDE-B5C1-B41BB602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BEAF-325B-446A-9DD0-685990BA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570F4-36B1-486F-8048-8DE2EF1C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80839-50E8-4776-9996-5D10F034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1ABEA-F4D1-496B-BFF1-62CBF40E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79DF7-B22C-40C9-B99A-AE471D0B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2DC6B-5D1F-4EEF-ADD9-AD623331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69D3A-473E-4BEF-8AE5-FA5B3A69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B3244-014F-4AF6-87F9-D09AF58D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05E9A-D2C5-4E00-AD31-1DE34BC9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9E619-AAE7-4F8A-BA60-BB417EE5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D5550-3D89-4517-A8A9-73F86352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6F96-45A8-4650-8DDE-EA7384DB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C9E00-5916-405D-BD15-E1BC75AC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5ECE8-C32B-437E-B56A-CA368EB3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E2391-0267-488A-87E1-8E17A434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562F6-F60C-46AC-B954-70DD0A23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07360-026B-45CC-97A4-4E5E23C7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4839C-5DCE-402C-8628-37903DB6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E82DE-8DE8-4C72-AA29-52CE8935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A412E-F776-4DE6-86C7-6D3F7889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58690-627B-4E36-A50D-A8CF5910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93E9E-674B-42BE-8484-2522BA3B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C6C6-AE98-492D-93CF-5A70F7C1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53248-070B-4D34-BAAB-599D8040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6703F-4C47-4AA0-ADD2-44CA09C0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AE6B8-45DF-429A-B2C1-E7405186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37246-DC39-4BBB-9340-FC2FD46B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34E62-6C14-4479-BD03-65BA7D0C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F0776-D7BA-46B4-B980-A9340A09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F70A3-BFC2-45F9-B62D-1DCFC5F2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5C61A-4449-41D2-8588-0D1FBE39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6AC44-6F4B-4653-A2F5-BA3F07C5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86FB4-2F73-4C0E-9032-D4E661A9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3F76-4DD0-4EDB-9EEF-DDDA4D84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F4101-B814-4752-944E-AAC303C5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E6160-75D3-4F19-A2AE-5C1EF012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008AF-91EB-4669-9D21-E08EADE3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AA151-99A2-46BA-8987-07FDB249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0A52F-8DF1-4124-BA46-A90606E6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06722-6322-4523-A210-80D9FDF5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FE65A-7F51-4075-8AF7-710BB680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91CBE-77BA-4F31-89E3-18839FF6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8BD54-13F2-4105-AE03-33A6F212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B9652-9D2C-4306-A7DF-8021A852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BAD8-075E-4982-8B9A-BB593E6E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BAEDF-EEF3-4520-B185-36CCB024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5FDBB-41C5-43C8-B4A6-56AEC188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AC46B-A4D3-4E8C-BCCB-59F7C7A7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E76D0-05E9-4B6D-984E-E0E1ED79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1250A-05A4-485C-A0C6-EFE64796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6971C-8198-4045-A456-EB92B128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307D6-27FF-4DE4-A9ED-34BB9C6D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BB3E9-ADF4-4AD2-B33D-9FBA8597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3F02A-415C-49D6-A39F-15F7D598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5E7EE-B0B5-4BC4-A437-0C053CB9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E1AF-357C-444A-904D-506880E0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96A11-1006-4C26-9E09-F2846AF3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D04D1-CA05-44AA-8FA5-F0312205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5DDF4-06FC-47F2-AD82-477339B1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81C8D-227F-480E-B8B0-E3A3ADFA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3895C-85EC-464D-902F-41A484A1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2E0CF-707A-4CCF-AC67-A35B61B4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B44BE-93CA-4A50-B9B7-A02A0D2B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B34ED-92AD-4319-B959-27E42F1B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035AB-9760-4E1C-A98F-D5F273D7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A02BF-A390-4420-832A-43F59179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281F-A392-49B4-9927-263489D9364A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38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4630-042E-4AE6-8A84-A208BED1988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3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EE32-88C6-4CA1-B37C-94CDE750CA8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7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8B4B-B796-49A0-B1F7-D5B810A77EF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2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1B66-B00C-4DBD-9242-26779C1BEA4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6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A950-D95B-4DBE-831A-BE547862114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1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25C7-CECE-4B4A-B89C-D8A103CB43C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5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ECDC-8AC2-4745-9621-BCDF604D265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0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FBE8-1D6C-4D1B-8472-57F36355EB7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4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C6C8-5DB1-4654-8C3E-73EC724D12B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28BD-E06B-4756-92F8-F7D75E37A2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4A20-D9D7-4F55-8F82-1F6DE3DF375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129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E239-6F0A-4CD0-A2E2-B4AC80E6B59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307C-F6B3-4B0E-97F2-6004BC032D75}" type="slidenum">
              <a:rPr b="0" lang="ru-RU" sz="18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15BC-D0BF-4CB3-9493-7AA6C4EAF731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948E-DE06-45BD-985D-930D45DA17DE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7563-A5BC-4105-B413-A7D76DF9F7D4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5631-AC78-4608-BFAF-AE7914E9A5E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ro.perm.ru/" TargetMode="External"/><Relationship Id="rId2" Type="http://schemas.openxmlformats.org/officeDocument/2006/relationships/hyperlink" Target="http://www.iro.perm.ru/" TargetMode="External"/><Relationship Id="rId3" Type="http://schemas.openxmlformats.org/officeDocument/2006/relationships/hyperlink" Target="http://www.iro.perm.ru/" TargetMode="External"/><Relationship Id="rId4" Type="http://schemas.openxmlformats.org/officeDocument/2006/relationships/hyperlink" Target="http://www.iro.perm.ru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mailto:ozdip@list.ru" TargetMode="External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cs.cntd.ru/document/zakon-rf-ob-obrazovanii-v-rossijskoj-federacii" TargetMode="External"/><Relationship Id="rId2" Type="http://schemas.openxmlformats.org/officeDocument/2006/relationships/hyperlink" Target="http://zakon-ob-obrazovanii.ru/" TargetMode="External"/><Relationship Id="rId3" Type="http://schemas.openxmlformats.org/officeDocument/2006/relationships/hyperlink" Target="http://zakon-ob-obrazovanii.ru/" TargetMode="External"/><Relationship Id="rId4" Type="http://schemas.openxmlformats.org/officeDocument/2006/relationships/hyperlink" Target="http://si-sv.com/publ/1/zdorovesberezhenie_na_uroke/14-1-0-74" TargetMode="External"/><Relationship Id="rId5" Type="http://schemas.openxmlformats.org/officeDocument/2006/relationships/hyperlink" Target="http://si-sv.com/publ/1/zdorovesberezhenie_na_uroke/14-1-0-74" TargetMode="External"/><Relationship Id="rId6" Type="http://schemas.openxmlformats.org/officeDocument/2006/relationships/hyperlink" Target="http://si-sv.com/publ/1/zdorovesberezhenie_na_uroke/14-1-0-74" TargetMode="External"/><Relationship Id="rId7" Type="http://schemas.openxmlformats.org/officeDocument/2006/relationships/hyperlink" Target="http://si-sv.com/publ/1/zdorovesberezhenie_na_uroke/14-1-0-74" TargetMode="External"/><Relationship Id="rId8" Type="http://schemas.openxmlformats.org/officeDocument/2006/relationships/hyperlink" Target="http://si-sv.com/publ/1/zdorovesberezhenie_na_uroke/14-1-0-74" TargetMode="External"/><Relationship Id="rId9" Type="http://schemas.openxmlformats.org/officeDocument/2006/relationships/hyperlink" Target="http://si-sv.com/publ/1/zdorovesberezhenie_na_uroke/14-1-0-74" TargetMode="External"/><Relationship Id="rId10" Type="http://schemas.openxmlformats.org/officeDocument/2006/relationships/hyperlink" Target="http://si-sv.com/publ/1/zdorovesberezhenie_na_uroke/14-1-0-74" TargetMode="External"/><Relationship Id="rId11" Type="http://schemas.openxmlformats.org/officeDocument/2006/relationships/hyperlink" Target="http://si-sv.com/publ/1/zdorovesberezhenie_na_uroke/14-1-0-74" TargetMode="External"/><Relationship Id="rId12" Type="http://schemas.openxmlformats.org/officeDocument/2006/relationships/hyperlink" Target="http://vopk.ru/view.php?event=levelxx_view&amp;a=5%7C72" TargetMode="External"/><Relationship Id="rId13" Type="http://schemas.openxmlformats.org/officeDocument/2006/relationships/hyperlink" Target="http://vopk.ru/view.php?event=levelxx_view&amp;a=5%7C72" TargetMode="External"/><Relationship Id="rId14" Type="http://schemas.openxmlformats.org/officeDocument/2006/relationships/hyperlink" Target="http://vopk.ru/view.php?event=levelxx_view&amp;a=5%7C72" TargetMode="External"/><Relationship Id="rId15" Type="http://schemas.openxmlformats.org/officeDocument/2006/relationships/hyperlink" Target="http://vopk.ru/view.php?event=levelxx_view&amp;a=5%7C72" TargetMode="External"/><Relationship Id="rId16" Type="http://schemas.openxmlformats.org/officeDocument/2006/relationships/hyperlink" Target="http://si-sv.com/publ/1/zdorovesberezhenie_na_uroke/14-1-0-74" TargetMode="External"/><Relationship Id="rId17" Type="http://schemas.openxmlformats.org/officeDocument/2006/relationships/hyperlink" Target="http://si-sv.com/publ/1/zdorovesberezhenie_na_uroke/14-1-0-74" TargetMode="External"/><Relationship Id="rId18" Type="http://schemas.openxmlformats.org/officeDocument/2006/relationships/hyperlink" Target="http://si-sv.com/publ/1/zdorovesberezhenie_na_uroke/14-1-0-74" TargetMode="External"/><Relationship Id="rId19" Type="http://schemas.openxmlformats.org/officeDocument/2006/relationships/hyperlink" Target="http://si-sv.com/publ/1/zdorovesberezhenie_na_uroke/14-1-0-74" TargetMode="External"/><Relationship Id="rId20" Type="http://schemas.openxmlformats.org/officeDocument/2006/relationships/hyperlink" Target="http://si-sv.com/publ/1/zdorovesberezhenie_na_uroke/14-1-0-74" TargetMode="External"/><Relationship Id="rId21" Type="http://schemas.openxmlformats.org/officeDocument/2006/relationships/hyperlink" Target="http://si-sv.com/publ/1/zdorovesberezhenie_na_uroke/14-1-0-74" TargetMode="External"/><Relationship Id="rId22" Type="http://schemas.openxmlformats.org/officeDocument/2006/relationships/hyperlink" Target="http://si-sv.com/publ/1/zdorovesberezhenie_na_uroke/14-1-0-74" TargetMode="External"/><Relationship Id="rId23" Type="http://schemas.openxmlformats.org/officeDocument/2006/relationships/hyperlink" Target="http://si-sv.com/publ/1/zdorovesberezhenie_na_uroke/14-1-0-74" TargetMode="External"/><Relationship Id="rId24" Type="http://schemas.openxmlformats.org/officeDocument/2006/relationships/hyperlink" Target="http://festival.1september.ru/articles/627448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health.iro.perm.ru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-181080" y="765000"/>
            <a:ext cx="8637840" cy="28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оль конкурса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Учитель здоровья России»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 формировании культуры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здоровья педагогов и обучающихся: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пыт проведения в Пермском крае, 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облемы и перспективы</a:t>
            </a:r>
            <a:br>
              <a:rPr sz="2800"/>
            </a:br>
            <a:endParaRPr b="1" lang="en-US" sz="24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8000" y="4122720"/>
            <a:ext cx="5400720" cy="2735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Лядова Наталья Владими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к.мед.наук, вед. научн.сотру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ГАУ ДПО «Институт развития образования Пермского кр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iro.perm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ермь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:\USERS\МАМА\Files - МАМА\А 2014\Конференция в Новосибирске\permskkrai-1.jpg"/>
          <p:cNvPicPr/>
          <p:nvPr/>
        </p:nvPicPr>
        <p:blipFill>
          <a:blip r:embed="rId5"/>
          <a:stretch/>
        </p:blipFill>
        <p:spPr>
          <a:xfrm>
            <a:off x="6948360" y="0"/>
            <a:ext cx="2195640" cy="217980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5" descr="набережная.jpg"/>
          <p:cNvPicPr/>
          <p:nvPr/>
        </p:nvPicPr>
        <p:blipFill>
          <a:blip r:embed="rId6"/>
          <a:stretch/>
        </p:blipFill>
        <p:spPr>
          <a:xfrm>
            <a:off x="5580000" y="3716280"/>
            <a:ext cx="3341880" cy="280836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1" descr=""/>
          <p:cNvPicPr/>
          <p:nvPr/>
        </p:nvPicPr>
        <p:blipFill>
          <a:blip r:embed="rId7"/>
          <a:stretch/>
        </p:blipFill>
        <p:spPr>
          <a:xfrm>
            <a:off x="0" y="0"/>
            <a:ext cx="1886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конкурса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11253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труднения конкурс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цели и задачи, которых в конспектах порой очень много, являются общими, не конкретными к представляемому урок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цель не соответствует ожидаемым результа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жидаемые результаты представлены общими словами, которые можно отнести к изучению предмета в целом, а не к конкретному уро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достаточно представлены здоровьесберегающие образовательные технологии, есть лишь некоторые приемы снятия позостатического напря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имеет место неправильное отнесение метапредметных, предметных и личностных результатов к соответствующей группе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писываемая деятельность учеников является исполнительской, а не учеб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в работах отсутствует оценивание достигнутых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в ряде работ тренеров-преподавателей, учителей физической культуры вообще нет акцента на здоровьесбережение во время урока и воспитательного компонента в плане повышения мотивации детей следовать правилам ЗО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правильно оформленный список литературы, порой старой, небольшой перечень или его отсу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06560" y="0"/>
            <a:ext cx="8137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в организации, проведении Конкур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ники: вмес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чителя общеобразовательных организаций, тренеры, преподаватели дополнительного, общего и профессионального образования»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писать: 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«учителя и педагоги общеобразовательных организаций, педагоги дополнительного образования, преподаватели среднего профессионального образ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Лучшему пониманию педагогом того, каким должен быть его План-конспект урока/занятия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 правильнее –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ехнологическая карта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, представляемых на конкурс, будут способствовать четкие критерии и их показа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едставление-характеристика с  описываемой в ней здоровьесберегающей деятельностью педагога, сведения о конкурсанте в Информационной карте тоже должны войти в список критери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83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едлагаем такой вариант критериев: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800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оформления и содержания технологической карты или плана-конспекта урока/занятия (Максим. 17 баллов). Заочный 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Дидактическое оформление технологической карты/плана-конспекта урока/занятия  (0-3 бал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. обоснованность темы и выбора содержания в контексте заявленной пробл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. грамотное дидактическое оформление плана консп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. вариативность методического инструментария в достижении планируемы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держание соответствует теме, включает воспитательный компонент по формированию культуры ЗОЖ, здоровьесберегающие технологии (0-3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1. глубина и оригинальность раскрытия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2. инновационные организационные формы и здоровьесберегающие образовательные технологии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3. здоровьесберегающий режим урока, воспитательный компоне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4000" y="115920"/>
            <a:ext cx="8459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Оригинальность используемых приемов, форм в достижении и оценивании результатов (0-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1. достижение заявленных личностных/ метапредметных/предметн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2. оценивание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3. рефлекс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Использованная литература (0- 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1. правильность оформления списк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2. широт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3. новизна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Характеристика (0-5 баллов)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Систематичность проведения пропаганды ЗОЖ среди обучающихся в урочной и внеурочной деятельности; удовлетворенность родителей; публикации, разработка и издание методических рекомендаций, пособий; участие педагога в конкурсах, посвященных сохранению и укреплению здоровья и ЗОЖ,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ВСЕГО бал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имеч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конкурсных мероприятий. Очный ту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981000"/>
            <a:ext cx="903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Фрагмент урока, внеклассного занятия. Регламент 25 минут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 Максимальное количество баллов – 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лубина содержания и оригинальность форм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армоничная интеграция вопросов здоровья и предметного содержания, воспитательный компонент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спользование здоровьесберегающих образовательных технологий, деятельностной основы учебной работ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Здоровьесберегающий режим урока, занятия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Результативность урока, занятия (соответствие достигнутых результатов заявленной цели, оценивание результатов, рефлексия)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6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Коммуникативная культура педагога, способность к импровизации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того за фрагмент ур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ольник 1"/>
          <p:cNvSpPr/>
          <p:nvPr/>
        </p:nvSpPr>
        <p:spPr>
          <a:xfrm>
            <a:off x="0" y="1890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SimSu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SimSun"/>
              </a:rPr>
              <a:t>Таким образом, участие в конкурсе «Учитель здоровья России» помогает учител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амому быть примером ведения здорового образа жизни, «заражает» других коллег стать участником Конкурс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троить свои уроки по-новому, создавая условия для эффективной учебной работы учеников без раннего и выраженного утомления, стрессирования, сохраняя на протяжении всего урока и учебного дня интерес и понимание детей, их высокую умственную работоспособность и хорош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А это и есть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Рисунок 3" descr="jat2uj15ohk_Preview.jpg"/>
          <p:cNvPicPr/>
          <p:nvPr/>
        </p:nvPicPr>
        <p:blipFill>
          <a:blip r:embed="rId1"/>
          <a:stretch/>
        </p:blipFill>
        <p:spPr>
          <a:xfrm>
            <a:off x="755640" y="443700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842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5003640" y="4367160"/>
            <a:ext cx="3594240" cy="2490840"/>
          </a:xfrm>
          <a:prstGeom prst="rect">
            <a:avLst/>
          </a:prstGeom>
          <a:ln w="0">
            <a:noFill/>
          </a:ln>
        </p:spPr>
      </p:pic>
      <p:pic>
        <p:nvPicPr>
          <p:cNvPr id="843" name="Рисунок 1" descr=""/>
          <p:cNvPicPr/>
          <p:nvPr/>
        </p:nvPicPr>
        <p:blipFill>
          <a:blip r:embed="rId3"/>
          <a:stretch/>
        </p:blipFill>
        <p:spPr>
          <a:xfrm>
            <a:off x="-228600" y="1764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ерспективы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0" y="907920"/>
            <a:ext cx="914400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Конкурсу бы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на всех уровн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от институциального до всероссийск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одумать соотнесение двух конкурсов «Учитель здоровья России» и «Школа – территория здоров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идать более современное звучание Положению о Конкур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6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7480" cy="1439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6" descr="D:\USERS\Бабуся\Pictures\ПОИПКРО, ПКИПКРО, ЦРО, ИРО ПК\Учитель здоровья 2013\IMG_3376 - копия.JPG"/>
          <p:cNvPicPr/>
          <p:nvPr/>
        </p:nvPicPr>
        <p:blipFill>
          <a:blip r:embed="rId2"/>
          <a:stretch/>
        </p:blipFill>
        <p:spPr>
          <a:xfrm>
            <a:off x="3419640" y="4765680"/>
            <a:ext cx="2790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Здоровье обучающихся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дна из целей педагогического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редство повышения качества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критерий эффективности деятельности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Рисунок 7" descr="sm.jpg"/>
          <p:cNvPicPr/>
          <p:nvPr/>
        </p:nvPicPr>
        <p:blipFill>
          <a:blip r:embed="rId1"/>
          <a:stretch/>
        </p:blipFill>
        <p:spPr>
          <a:xfrm>
            <a:off x="4643280" y="1125360"/>
            <a:ext cx="3345120" cy="22291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lechebnay-fizkultura-krasnoyarsk-bubnovskiy"/>
          <p:cNvPicPr/>
          <p:nvPr/>
        </p:nvPicPr>
        <p:blipFill>
          <a:blip r:embed="rId2"/>
          <a:stretch/>
        </p:blipFill>
        <p:spPr>
          <a:xfrm>
            <a:off x="4356000" y="3429000"/>
            <a:ext cx="2251080" cy="2941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" descr="Территория здоровья"/>
          <p:cNvPicPr/>
          <p:nvPr/>
        </p:nvPicPr>
        <p:blipFill>
          <a:blip r:embed="rId3"/>
          <a:stretch/>
        </p:blipFill>
        <p:spPr>
          <a:xfrm>
            <a:off x="6877080" y="4489560"/>
            <a:ext cx="2266920" cy="18032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" descr=""/>
          <p:cNvPicPr/>
          <p:nvPr/>
        </p:nvPicPr>
        <p:blipFill>
          <a:blip r:embed="rId4"/>
          <a:stretch/>
        </p:blipFill>
        <p:spPr>
          <a:xfrm>
            <a:off x="-181080" y="104760"/>
            <a:ext cx="172872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Министерство образования и нау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ермского кра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br.permkrai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ГАУ ДПО «Институт развития образования Пермского края», Отдел сопровождения ФГОС. Тел. 8(342)212 21 99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ozdip@list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ядова Наталья Владимиров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закон «Об образовании в Российской Федерации» (с изменениями 2018 года)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akon-ob-obrazovanii.r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нПиН 2.4.2.2821-10 «Санитарно-эпидемиологические требования к условиям и организации обучения в общеобразовательных организациях. Санитарно-эпидемиологические правила и нормативы» с изменениями от 24 ноября 2015 год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http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://xn--80abucjiibhv9a.xn--p1ai/%D0%B4%D0%BE%D0%BA%D1%83%D0%BC%D0%B5%D0%BD%D1%82%D1%8B/1136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ведения урока с позиции здоровьесбережения [Электронный ресурс] – Режим доступа:  http:// school6nojabrsk.narod. ru (дата обращения: 11.04.2012). Источник: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-sv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ub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1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zdorovesberezhenie_na_uroke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рхин В. Учитесь на здоровье: Здоровьеориентированный образовательный процесс на уроке / Владимир Ирхин, Ирина Ирхина. – М.: Чистые пруды, 2008. – 32 с. – (Библиотечка «Первого сентября», серия «Здоровье детей». Вып. 2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.М.Безруких «Методические рекомендации по оценке состояния здоровья, учебной и внеучебной нагрузки, организации учебного процесса в 1, 10 классах при проведении широкомасштабного эксперимента (блок физиологического и психо-физиологического сопровождения эксперимента)»,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Пастухова О.М., Гарсиа Э.Н. Мониторинг здоровья учащихся: Методическое пособие. – Пермь: ПОИПКРО, 2007 – 4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 Оценка деятельности общеобразовательного учреждения по сохранению и укреплению здоровья учащихся методическое пособие. – Пермь: ОТ и ДО, 2010. – 2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Кокшаров В.Л. Результаты мониторинговых исследований состояния здоровьесберегающей среды в общеобразовательных организациях Пермского края. Электронный журнал «Вестник образования Пермского края». Вып. №.5.1.1 от 07.05.2015. Р.6.1.1., 22 с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vopk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view.php?event=levelxx_view&amp;a=5|7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Здоровьесберегающие образовательные технологии в работе учителя и школы. – М.: АРКТИ, 2003. – 271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Руководство по здоровьесберегающей педагогике. Технологии здоровьесберегающего образования.  М.: АРКТИ, 2008.  288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ы здоровья России : принципы и организация работы. Мониторинг развития и эффективность / В.Р.Кучма, Л.М Сухарева, И.К.Рапопорт и др.; под ред. В.Р.Кучмы. – М. : Просвещение, 2012. – 235 с. – (Работаем по новым стандарта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здоровья [Электронный ресурс] – Режим доступа: http://Schools.Keldysh.ru (дата обращения: 11.04.2012)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сточник: 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:/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si-sv.com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publ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1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zdorovesberezhenie_na_uroke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годкина Е.Б. Приемы здоровьесбережения на уроках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festival.1september.ru/articles/627448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2800" y="15840"/>
            <a:ext cx="82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«Чтобы сделать ребенка умным и рассудительным – сделайте ег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крепким и здоровым»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/Жан Жак Руссо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Рисунок 3" descr="john-jacques-rousseau-i4.jpg"/>
          <p:cNvPicPr/>
          <p:nvPr/>
        </p:nvPicPr>
        <p:blipFill>
          <a:blip r:embed="rId1"/>
          <a:stretch/>
        </p:blipFill>
        <p:spPr>
          <a:xfrm>
            <a:off x="3995640" y="476280"/>
            <a:ext cx="1728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Calibri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Содержимое 5" descr="Счастье 3.jpg"/>
          <p:cNvPicPr/>
          <p:nvPr/>
        </p:nvPicPr>
        <p:blipFill>
          <a:blip r:embed="rId1"/>
          <a:stretch/>
        </p:blipFill>
        <p:spPr>
          <a:xfrm>
            <a:off x="1238400" y="1849320"/>
            <a:ext cx="6667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Пермском крае накоплен большой опыт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решении вопросов здоровьесбережения школь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067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здана сеть школ, содействующих здоровь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одятся краевые этапы всероссийских конкурсов «Школа – территория здоровья» (2005-2011, 2018), «Учитель здоровья России» (2011-2014, 2018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едено 15 краевых НПК  «Здоровье и образовани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пробирована единая система мониторинга здоровьесберегающей среды в ОО Пермского края с использованием разработанного в ИРО ПК Web-ресурса – сайт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duhealth.iro.perm.ru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 «Школьное здоровье», 2014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Рисунок 6" descr="IMG_3362.JPG"/>
          <p:cNvPicPr/>
          <p:nvPr/>
        </p:nvPicPr>
        <p:blipFill>
          <a:blip r:embed="rId2"/>
          <a:stretch/>
        </p:blipFill>
        <p:spPr>
          <a:xfrm>
            <a:off x="6659640" y="1052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016360" cy="151164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25200" y="333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В рамках проекта Министерства просвещения РФ «Внедрение в общеобразовательных организациях системы мониторинга здоровья обучающихся на основе отечественной технологической платформ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0" y="1125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создан Региональный центр мониторинга здоровья обучающихся с ОВЗ, октябрь 2017 г.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10 школ, осуществляющих образовательную деятельность по адаптированным основным общеобразовательным программам, участвующих в реализации этого проекта в рамках подпрограммы Российской Федерации «Развитие фармацевтической и медицинской промышленности» на 2013-2020 годы» в 2017 году получили современное оборудование для мониторинга здоровья обучающихся с особыми образовательными потребностями, и сотрудники прошли повышение квалификации по вопросам внедрения системы мониторинга здоровья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ольник 1"/>
          <p:cNvSpPr/>
          <p:nvPr/>
        </p:nvSpPr>
        <p:spPr>
          <a:xfrm>
            <a:off x="826920" y="33336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реализуются мероприятия по формированию здорового образа жизни обучающихся и педагогов образовательных организаций Пермского края, утвержденные Минобром ПК на 2017-2018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Для комплексного решения проблем здоровья школьников в Пермском крае разрабатывается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региональная модель здоровьесберегающе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2"/>
          <p:cNvSpPr/>
          <p:nvPr/>
        </p:nvSpPr>
        <p:spPr>
          <a:xfrm>
            <a:off x="179280" y="3357720"/>
            <a:ext cx="896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0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–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модернизация образов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бщеобразовательных организаци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снове создания и развития здоровьесберегающей среды, направленной на содействие здоровью в контексте требований ФГОС и в условиях внедрения ВФСК Г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Рисунок 3" descr="cel.jpg"/>
          <p:cNvPicPr/>
          <p:nvPr/>
        </p:nvPicPr>
        <p:blipFill>
          <a:blip r:embed="rId1"/>
          <a:stretch/>
        </p:blipFill>
        <p:spPr>
          <a:xfrm>
            <a:off x="108000" y="3860640"/>
            <a:ext cx="1944720" cy="11098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оль Конкурса «Учитель здоровья России-2018» в приобщении педагогов к делу воспитания культуры здоровья педагогов и обучающихся видится в следующ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едагоги не остались равнодушными к вопросам формирования культуры здоровья школьников и поучаствовали в этом Конкур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е, кто поучаствовал, показали свое желание и умение гармонично включать в содержание учебного материала по своему предмету вопросы формирования культуры здорового образа жизни и применять здоровьесберегающие подходы в ход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очном этапе Конкурса педаго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системно-деятель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дход к обучению, ставили и достиг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и по развитию личностных, метапредмет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ных УУД и предметных уме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хорошую коммуникативную культу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6" descr="Рисунок11"/>
          <p:cNvPicPr/>
          <p:nvPr/>
        </p:nvPicPr>
        <p:blipFill>
          <a:blip r:embed="rId1"/>
          <a:stretch/>
        </p:blipFill>
        <p:spPr>
          <a:xfrm>
            <a:off x="6300720" y="3716280"/>
            <a:ext cx="2843280" cy="212724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0" y="95256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«Самоанализе мероприятия» конкурсанты показали умение видеть свои недостатки, ошибки и их причины, не бояться сказать о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творческой презентации «Я – учитель здоровья» представили положительный опыт своей продолжительной и системной работы по формированию культуры здоровья обучающихся, наличие результатов по сохранению и улучшению здоровья детей, по формированию мотивации у детей следовать правилам ЗОЖ, показали свою приверженность ЗОЖ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акие учителя по праву достойны называться учителями здоровья и быть примером для коллег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5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бщим положительным результатом Конкурса-2018 для участвовавших в нём педагогов является то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76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аждый участник  заочного тура повысил свою компетентность и получил опыт представления результатов педагогической деятельности, в том числе, в направлении формирования здорового образа жизни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ники очного тура получили бесценный опыт проведения здоровьесберегающих уроков с учетом требований Положения о Конкурс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условиях профессионального соперни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ие педагогов в Конкурсе дает бонусы к их аттестации через портфолио учителя (дипломы, сертифика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бедитель и лауреаты Конкурса получили денежное вознаграждение. Все участники получили моральное вознаграждение в виде размещения информации в сети интернет на сайте ИРО Пермского кр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4" descr="IMG_20180928_131629"/>
          <p:cNvPicPr/>
          <p:nvPr/>
        </p:nvPicPr>
        <p:blipFill>
          <a:blip r:embed="rId1"/>
          <a:stretch/>
        </p:blipFill>
        <p:spPr>
          <a:xfrm>
            <a:off x="539640" y="5229360"/>
            <a:ext cx="2178000" cy="16286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5" descr="IMG_20181002_133137"/>
          <p:cNvPicPr/>
          <p:nvPr/>
        </p:nvPicPr>
        <p:blipFill>
          <a:blip r:embed="rId2"/>
          <a:stretch/>
        </p:blipFill>
        <p:spPr>
          <a:xfrm>
            <a:off x="3348000" y="5214960"/>
            <a:ext cx="2197080" cy="16430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" descr="IMG_20180928_123823"/>
          <p:cNvPicPr/>
          <p:nvPr/>
        </p:nvPicPr>
        <p:blipFill>
          <a:blip r:embed="rId3"/>
          <a:stretch/>
        </p:blipFill>
        <p:spPr>
          <a:xfrm>
            <a:off x="6084720" y="5160960"/>
            <a:ext cx="2259360" cy="169704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2960"/>
            <a:ext cx="79423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ие Министерства образования и науки Пермского края в качестве учредителя Конкурса придало статусность, весомость и значимость Конкурсу, и соответственно -  вопросам здоровьесбережения, формирования культуры здоровья - в глазах руководителей общеобразовательных организаций;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актуализируются тема «здоровье школьника», проблемы формирования культуры здоровья в образовательном пространст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создать и развить региональную сеть школ здоровья, создать банк таких школ и педагогов – учителей здоровь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трансля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распространения лучшего педагогическ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опыта по формированию культуры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у обучающихся и педагогов.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9" descr="Копия IMG_20171102_125237"/>
          <p:cNvPicPr/>
          <p:nvPr/>
        </p:nvPicPr>
        <p:blipFill>
          <a:blip r:embed="rId1"/>
          <a:stretch/>
        </p:blipFill>
        <p:spPr>
          <a:xfrm>
            <a:off x="6335640" y="4751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26:38Z</dcterms:created>
  <dc:creator>Лядова Н.В.</dc:creator>
  <dc:description/>
  <dc:language>en-US</dc:language>
  <cp:lastModifiedBy>Ljadova-NV</cp:lastModifiedBy>
  <dcterms:modified xsi:type="dcterms:W3CDTF">2019-05-14T10:54:42Z</dcterms:modified>
  <cp:revision>405</cp:revision>
  <dc:subject/>
  <dc:title>Оразование и здоровье. Школа, содействующая укреплению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516</vt:lpwstr>
  </property>
</Properties>
</file>